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6E63-7C81-4BE3-A4A1-19632C9FD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FCFA-D207-4158-93AC-77C6AA04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651D-DDF3-40F9-B753-5AFE36D15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EDF0-8B36-496D-AD65-59598808D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EFBB-1890-4DF7-BA41-0C69960B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F477-D043-4D1F-8732-7E1570E4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9593-F060-4721-9F03-2447E579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8153-A728-4BE2-A2D7-9525CD8B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2123-79AC-4978-951C-DD514747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A4FB-7939-477D-9C21-039B9F87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213C-9A4F-47FA-8E3B-1A9F1AF5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567C-84B7-4DAE-802C-D5327C13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8650-C14E-4C07-ADEE-C8B6E5DF3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genes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/18/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sioned DB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Versioned DBCla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ubclass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BCla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objects have different versions as annotations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If we change the end points of a pseudogene, we will create a new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r example: There will never be a new version of a given build – just a new bu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ributes of a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Versioned DB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object of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Versioned DBCla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ccession (acc)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ersion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ed (if necessary) when inserted into the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keys are still unique to each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cc/versioned pair also unique to each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sioned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Versioned DBCla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extra methods as appropria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seudogene::recent_ver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Returns the most recent version of a given Pseudog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BCla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s are extended by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Versioned DBCla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s as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mits search to most recent versions (unless otherwise specified in paramet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es dictated by other sour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ui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ot versioned): Corresponds to a given bui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hromos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ot versioned): Corresponds to a given chromosome on a given bui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ote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versioned): Basic protein information from SwissProt (acc, name, sequ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be periodically automatically synchornized with SwissPr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e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 defined by 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ag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versioned): A fragment of DNA submitted for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uence_Alig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versioned): The results of aligning a protein and a fragment with a given tool (e.g. Blast, FastA or Smith-Waterm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seudoge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versioned): A sequence of one or more fragments forming a pseudogene (and the defining align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FSe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ersioned): A set of pseudogenes and fragments with a user annotation (e.g. All pseudogenes listed in a given pap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ap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remapp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ew version of each curren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ag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st be created for the new bu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eliminate a fragment from pairs that remap to the same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lign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eed to be calculated for each fragment whose sequence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ew version of each curren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seudoge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st be created using the new fra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account for fragments that have been eliminated due to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apping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tep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Remap frag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 current fragment by id (arbitrary) and process each with lift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fragment is mapped to the exact location of a previously mapped fragment, mark it “dead” (e.g. there no longer a current version of that ac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apping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tep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Re-calculate alignments whe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alignment involving a remapped frag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fragment has an identical sequence, create new alignment for the new fragment version from the old alignment (with no recalul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, use tblasty to realign the fragment to the protein, creating new alignment from these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structured access to pgen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allow for reconstruction of database state at any pas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ily (and automatically) updateable with respect to other databases and annotation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 easily maintained and modified by future administ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simplified with minimal redunda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normalized with minimal redunda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 oriented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issues are hidden behind class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mers can write code to access/modify database without knowledge of the database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ors will require little knowledge of structure for mo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f inheritance minimizes code du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s / modifications to interface code generally need be made in only one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entity stored in the database is part of som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Pseudogene, Chromosome, Bu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lass provides methods needed to access the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seudogene::get_p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Returns a pseudogene object with information corresponding to a given primary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seudogene::inse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Inserts a new pseudogene (described by the object) into the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Object: DB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classes are derived from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B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object of DBClass h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imary 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trib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ed by class when inserted into the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 to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ntry d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tribu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t time of insertion into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BClass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DBClass ha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se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odif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atabase mod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et_p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search by primary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search database by specified cri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criteria specified using sepa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u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complex searches require knowledge of the query class or of the SQL search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s the information contained in objec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o the databa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-&gt;inser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all processed pseudogenes with a gc-content &gt; 80%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y @arr = Pseudogene-&gt;get(where=&gt;”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type=‘p’ and GC_Pgene &gt; 0.8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”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class has a set of attributes representing signification inform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uild::Build_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hromosome::Chromosome_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etrieved using a get_X method, e.g.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y $num = $C-&gt;get_chromosome_number(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itional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 methods are provided for each class as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seudogene::get_by_lo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inds all pseudogenes intersecting a given lo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y @arr = Pseudogene::get_by_location($C, 10000, 2000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an exhaustive list of pseudogene objects that intersect the interval [10000,20000] on the chromosome represented by objec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7T17:21:18Z</dcterms:created>
  <dc:creator>karro</dc:creator>
  <dc:description/>
  <dc:language>en-US</dc:language>
  <cp:lastModifiedBy>karro</cp:lastModifiedBy>
  <dcterms:modified xsi:type="dcterms:W3CDTF">2004-05-17T20:11:05Z</dcterms:modified>
  <cp:revision>8</cp:revision>
  <dc:subject/>
  <dc:title>PowerPoint Presentation</dc:title>
</cp:coreProperties>
</file>